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80B-3A1D-4A37-AB29-FB9026B9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773D-8929-4171-A06C-8055250B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AA54-A7E2-42E1-98CF-632181BB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6F7-824E-4909-9952-E0190AFF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9E6D-9A37-4AA9-8ABB-9C9CB938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CAE-663E-4B50-BAD8-EB658A71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649-F221-4034-9355-39A21933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F4F-EC53-49BA-A6BB-E793DC57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E47-027E-4379-A858-8124F55E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33BE-22B8-480C-8821-B41982D7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666-926D-4761-9A0E-C08215FC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F7EE-78BB-4C0D-9AB1-8C404859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02FA-4FF4-42BA-88E8-77774BE9B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585" t="0" r="6797" b="0"/>
          <a:stretch/>
        </p:blipFill>
        <p:spPr>
          <a:xfrm>
            <a:off x="0" y="476280"/>
            <a:ext cx="914400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10138" t="12213" r="12796" b="12189"/>
          <a:stretch/>
        </p:blipFill>
        <p:spPr>
          <a:xfrm>
            <a:off x="250920" y="907920"/>
            <a:ext cx="5976720" cy="4397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8748720" y="645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3982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16490" b="0"/>
          <a:stretch/>
        </p:blipFill>
        <p:spPr>
          <a:xfrm>
            <a:off x="179280" y="260280"/>
            <a:ext cx="6121440" cy="4849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6880" y="3268800"/>
            <a:ext cx="26096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46880" y="3268800"/>
            <a:ext cx="2609640" cy="3473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26520" y="549360"/>
            <a:ext cx="300456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6880" y="2924280"/>
            <a:ext cx="361260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стойч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5640" y="1700280"/>
            <a:ext cx="50011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еустремл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640" y="4365720"/>
            <a:ext cx="6101640" cy="1739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мение бы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мелым исследовател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кружающего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46880" y="3268800"/>
            <a:ext cx="2609640" cy="3473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446880" y="3268800"/>
            <a:ext cx="26096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3240" y="333360"/>
            <a:ext cx="6124320" cy="6129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менно та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ыцари нау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являю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линной гордость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воей больш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малой родин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торых воспита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первую очередь семь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мейный уклад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радиции и огром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юбовь родите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748720" y="64533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68880" y="5805360"/>
            <a:ext cx="429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Н.П. Крав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17673E-006 L -0.3474 -0.26348 E">
                                      <p:cBhvr>
                                        <p:cTn id="20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39828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7485" t="0" r="6683" b="0"/>
          <a:stretch/>
        </p:blipFill>
        <p:spPr>
          <a:xfrm>
            <a:off x="0" y="404640"/>
            <a:ext cx="914400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143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7485" t="0" r="6683" b="0"/>
          <a:stretch/>
        </p:blipFill>
        <p:spPr>
          <a:xfrm>
            <a:off x="0" y="404640"/>
            <a:ext cx="914400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433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333360"/>
            <a:ext cx="8207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известный известный ученый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трихи к портрету Н.П. Кравко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461800">
            <a:off x="3276360" y="3284280"/>
            <a:ext cx="2995560" cy="297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82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57652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67331" t="26385" r="0" b="14450"/>
          <a:stretch/>
        </p:blipFill>
        <p:spPr>
          <a:xfrm>
            <a:off x="0" y="0"/>
            <a:ext cx="582624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748720" y="645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3982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5030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54800" y="333360"/>
            <a:ext cx="2131920" cy="2590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443640" y="3284640"/>
            <a:ext cx="257652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443640" y="3284640"/>
            <a:ext cx="258912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08000" y="189000"/>
            <a:ext cx="6119280" cy="5041800"/>
            <a:chOff x="108000" y="189000"/>
            <a:chExt cx="6119280" cy="504180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08000" y="189000"/>
              <a:ext cx="2958120" cy="50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3305160" y="189000"/>
              <a:ext cx="2922120" cy="504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443640" y="3284640"/>
            <a:ext cx="2589120" cy="3446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8748720" y="645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39828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420228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443640" y="3284640"/>
            <a:ext cx="2589120" cy="3446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443640" y="3284640"/>
            <a:ext cx="258912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589120" cy="3446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42544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6072120" cy="4554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446880" y="3268800"/>
            <a:ext cx="2609640" cy="347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rcRect l="12610" t="0" r="11779" b="0"/>
          <a:stretch/>
        </p:blipFill>
        <p:spPr>
          <a:xfrm>
            <a:off x="6588000" y="333360"/>
            <a:ext cx="21607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6:11:51Z</dcterms:created>
  <dc:creator>сергей</dc:creator>
  <dc:description/>
  <dc:language>en-US</dc:language>
  <cp:lastModifiedBy>сергей</cp:lastModifiedBy>
  <dcterms:modified xsi:type="dcterms:W3CDTF">2017-03-13T16:14:48Z</dcterms:modified>
  <cp:revision>4</cp:revision>
  <dc:subject/>
  <dc:title>Слайд 1</dc:title>
</cp:coreProperties>
</file>